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E41-F9D2-4779-B505-7DB7E3E6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2451-1B5C-4F38-BF86-C98EEB35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D322D-9A1E-47D9-97D9-BBDC69E2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647E21-53B4-4E39-AB38-81E11ECE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E33778-5799-4214-A13F-4BAAA04F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1C604B-28E3-4932-AE84-AB47B69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088D9A-E417-4973-80E8-966829A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16D45-DF3E-41C7-AECF-7283D41D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3D6861-99B0-4AA5-8C01-45A5F386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8099AB-A7BE-45B1-BB87-B497AB03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9AD37-7F6C-4244-B0E4-FF67A354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6C2-D176-4C96-9630-0C89FCED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8F8-96B9-4E3A-8D72-F2559254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19537-C52F-404B-8F63-DDE47678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46036-3B8B-4F3C-996F-95CD6233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48F2F5-101A-4213-AC30-B6639CD1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95A06-B6F4-4FE8-9338-B0805E7D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D9B3B-B138-4C14-9E54-7244900AC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0AD13-C34D-44CD-ACE0-B607B8B4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72F1D-2462-4974-ADB8-B150CCF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FCE-36C1-4CD9-933B-6772DED0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41AC5-BFDB-410E-9E1F-B50F00F7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F3157-9DF6-4C41-829B-AF644B5B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A6BC7-7A6D-4144-B7EE-F22F27E1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1BFF4-50A0-4FAF-8C87-0D784156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01D35-0FBA-4D7E-AE12-AEC21463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940B7-7D8A-4E83-932D-13AC0273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2FA14-0FA5-4389-A359-F8BE580E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00B4A-F107-44A2-99E1-19C6CC7E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4A77-4505-4AF2-BEB9-0EA23004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BCB9F-50BB-45C4-9659-5AC59132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84B-B02A-45B2-88F8-02656BC3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F02E-BD7B-4B21-BD17-5F463F75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EFC97-E238-4A1B-8C60-C3612638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C64CF-04D6-4D87-ABA8-122E5884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31D9-494D-4A54-BE36-EDAD85B6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76293-C17D-40B5-8E10-7938521E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080E-7A70-4C22-9759-C22D4503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E5DA-FEF9-4884-956C-B4F00190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60821-E691-4B73-99D0-2C18F983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F75549-12F3-43C4-B46A-39545377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1FD148-9B0A-4274-950C-7DD2A15B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5B1-5E69-4CE5-BB2E-876536B2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E19FD-9876-40FC-B6CC-CC3B50EB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138E9-61D0-4211-A755-D10176EB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CA4A1-DD6B-4777-9DAD-1C502715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CFB7AD-DE70-4CC4-9B00-28921A55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3B255-4AD7-4D1B-B221-8E3BBF3B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E3904D-B029-4B06-A9A4-9B585A5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C50AAE-FE4E-4D68-A8D2-2F6430A4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AD02D-E1A3-452B-8F0F-897C3D12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6DC708-591B-4E7F-BE22-05F59605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B5812-04BD-4FE6-80A8-814F4B9D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9D7-ED2B-405D-A72E-3F8CF10B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85C85-9533-44C7-8142-1D3B4473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5901D-845B-45C5-B02A-AA6C38C9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4E0BD-2DB0-4552-AA9A-808085E0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2133C-1C7B-475C-8832-52FFB26E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A2B60-4CF8-4473-B9DF-91C4C55F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1319-5C06-4E8D-8DB1-5952B205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090C5-B00E-49AC-92AE-6BC68F0F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3F2C-1678-47F1-B26D-DBDFF2C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5BFC2-A02F-4CA1-8838-F6405055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ED8B-9EEB-4D2A-8A13-FF42081C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B48-CFDF-45F2-A15F-C753031C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DD55C-A4F1-4209-BD82-24BAF50E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AA5EA-48B9-4620-BE04-C4453D11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AEFA4-AC8A-4FE0-9568-DE82AA89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56DD3-4A7B-458A-A25D-3E3062CA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BB4F-24E2-4D65-98A7-137503AB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A0A53-30BB-491D-847B-86E951F3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BB85E-8AC3-4516-9A32-FBFD0A28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B9DA1-0870-40DC-8B79-0BE8E505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C7878-78FF-4D7A-9246-3DCD743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768C-62D5-4543-A4E2-B9F8A34C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9B7-3817-4B1F-93CD-CA4140A6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A31D0-5B85-4649-A714-17C9ED72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9E313-2F51-4B24-ACF6-2A0CFD39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A8E4E-6058-4B6F-A76C-C2EC2F11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3AF5B-7EE9-4BD8-96C5-A6C5ED61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3D476-5DB2-4205-AC34-AAEC0098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968F0-7CE9-4A3E-958A-2C7A014F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77F3-F9BD-4F0E-B2AD-FDE45B0A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68ABC-B1F2-4DA7-AEC6-09AC473C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46ED3-753F-4E3E-ADA2-DE5A798C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2F90F-CE2C-4D78-B74B-5C5F4B3D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90D-7168-4708-8B18-C8130768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A94E0-DF24-4877-9FDA-8A9D31A4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E99D8-65DF-4545-835A-70E795B2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E4B8E-5060-4091-967D-56EE7F93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82A9B-693A-4789-AC0B-22B0807B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8C46E-246C-4273-8F4E-75A77E8D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0D8E1F-48FA-4A5F-B81C-B1B0DBD2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4F1382-49C1-4A54-B81F-0F57EDD5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EA01F-4F6F-42C9-86BC-C09BD886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5BCACE-008E-4231-8342-270A9497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4F20A2-3E18-4F93-BA8B-52F66D58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2D4-F5F0-44A1-82FD-5D107CEB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AEE6B-65EB-476A-AFD2-A673F70A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7118DD-3AEB-4BBC-91A5-3C4DFB40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F3C45A-C343-456C-801E-C2086778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49CBE4-3BC3-4E6C-8064-AE1424A9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A1115E-6D05-47A5-ADC3-DF6548E5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F00BF5-BF68-4259-B3FF-EB725B31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192D02-C081-4F8E-A4F9-1A2BBE73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2C6D38-7CD1-40E4-AAA8-961D3116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8CEB12-7297-48DC-9C23-1233267C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15790-DE9D-45B1-92D2-E0850072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DDA0-63BB-4501-8F18-CAAC6E2666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A780-447A-4411-B6AF-B62A045EB0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E4F3-2169-40D0-BDDC-614512D9289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7846-5590-4196-8387-0FA9EA988C4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A45A-20B7-4149-8323-77C211CA22F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0342-6A9E-46B3-8A07-BB4B4DC2F0F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2955-EFE2-4F0B-85B6-EFA653E3879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B7B0-408C-450D-A46D-EF9D4B1552D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4B00-C641-42B2-9AF8-56E5D3B481E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3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6765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 bus ticket from Juanita’s town to Houston, Texas costs $389.  A plane ticket costs $700.  The bus leaves at 7:30 A.M. and the plane leaves at 9:10 A.M.  The bus trip takes 6 hour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f Juanita and her mother travel by plane to Houston, how much will they spend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228600" y="11430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f Juanita and her mother travel to Houston by bus, what is a good estimate of the amount they will have to spend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f Juanita pays for a bus ticket with 4 one hundred dollar bills, how much change will she receive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62440" indent="-262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56680" indent="-25668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much would Juanita save if she bought a bus ticket to Houston instead of a plane ticket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6840" y="1219320"/>
            <a:ext cx="85345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f the plane trip takes 60 minutes from Juanita’s town, what time will the plane arrive in Houston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71440" indent="-27144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21:08:38Z</dcterms:created>
  <dc:creator>127partidak</dc:creator>
  <dc:description/>
  <dc:language>en-US</dc:language>
  <cp:lastModifiedBy>127partidak</cp:lastModifiedBy>
  <dcterms:modified xsi:type="dcterms:W3CDTF">2011-10-28T21:15:41Z</dcterms:modified>
  <cp:revision>1</cp:revision>
  <dc:subject/>
  <dc:title>Information</dc:title>
</cp:coreProperties>
</file>